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1EA9-E9B7-4276-AB34-846400E45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9A35-6923-4D9C-ACE1-9D80E599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5856-1ED9-4B98-B4CE-785295EE3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FB5A-B4A0-4293-9A82-B3AC902FD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E081-E783-4050-B633-30728D7A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CFC4-718D-4FFD-86D8-B274BA97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82CA-B955-4F37-A85B-1221C980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6946-E57B-4AD5-88BE-5D5B8D41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71EE-4C5A-40D3-9FFB-79874EE5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E064-FB9C-4E46-B4D2-54B00D5D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4F4E-C215-4950-97AB-FB03607D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9CA5-F7BA-4068-A745-60902F42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D2EA-71B4-4850-932E-EA4FA1AD3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e in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tertainment of Russ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-160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.. *..(¨`•.•´¨). *`•.¸.•´* . *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* ... *`•.¸.•´ * *. * . * . * ... *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☮=Peac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♥=Hearts 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Doodle Smil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✿=Flow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☺=Smiley Face </a:t>
            </a:r>
            <a:br>
              <a:rPr sz="3200"/>
            </a:br>
            <a:r>
              <a:rPr b="0" lang="ka-GE" sz="3200" spc="-1" strike="noStrike">
                <a:solidFill>
                  <a:srgbClr val="000000"/>
                </a:solidFill>
                <a:latin typeface="Arial"/>
              </a:rPr>
              <a:t>ღ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ncy Hear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☆=Star 1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★=Star 2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♣=clover!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♪♫=Music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◦◕‿◕◦=face </a:t>
            </a:r>
            <a:br>
              <a:rPr sz="3200"/>
            </a:br>
            <a:r>
              <a:rPr b="0" lang="az-Cyrl-AZ" sz="3200" spc="-1" strike="noStrike">
                <a:solidFill>
                  <a:srgbClr val="000000"/>
                </a:solidFill>
                <a:latin typeface="Arial"/>
              </a:rPr>
              <a:t>Ѽ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Ƹ̵̡</a:t>
            </a:r>
            <a:r>
              <a:rPr b="0" lang="az-Cyrl-AZ" sz="3200" spc="-1" strike="noStrike">
                <a:solidFill>
                  <a:srgbClr val="000000"/>
                </a:solidFill>
                <a:latin typeface="Arial"/>
              </a:rPr>
              <a:t>Ӝ̵̨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Ʒ=butterfl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✔=checkmark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✖=x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✦=diam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4:10:21Z</dcterms:created>
  <dc:creator>RoNald</dc:creator>
  <dc:description/>
  <dc:language>en-US</dc:language>
  <cp:lastModifiedBy>Bowey</cp:lastModifiedBy>
  <dcterms:modified xsi:type="dcterms:W3CDTF">2010-12-16T01:12:45Z</dcterms:modified>
  <cp:revision>4</cp:revision>
  <dc:subject/>
  <dc:title>Culture in Russia</dc:title>
</cp:coreProperties>
</file>